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bc45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260F-3A6A-43F7-9BD9-7CDCB847860D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hdr"/>
          </p:nvPr>
        </p:nvSpPr>
        <p:spPr>
          <a:xfrm>
            <a:off x="1574640" y="88920"/>
            <a:ext cx="3835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oardworks AS Biolo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04EA-FA5E-404C-875B-1E9E70B7446D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1574640" y="88920"/>
            <a:ext cx="383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AS Biology 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337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7C1A-E59F-4FFB-8F0F-3F0425122A78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1574640" y="88920"/>
            <a:ext cx="383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AS Biology 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the SAN is damaged, the AVN can take over as pacemaker, but it works at a lower frequency than the S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4BCA-547D-4B53-9C0E-FC8283024080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1574640" y="88920"/>
            <a:ext cx="383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AS Biology 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1EBC-5E00-4474-AC27-FDFD3DEEF655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1574640" y="88920"/>
            <a:ext cx="383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AS Biology 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cemakers may be temporary (in which case the main pacemaker unit is usually external) or perma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manent pacemakers are commonly implanted beneath subcutaneous fat in the chest. The electrodes are inserted into a vein and passed through to be attached into the appropriate chamber(s) of the hear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92A1-E28F-44E2-83AD-C3CCBD1A5E64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1574640" y="88920"/>
            <a:ext cx="383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AS Biology 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2DEB-ECD4-471D-B009-4DA277A864E1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1574640" y="88920"/>
            <a:ext cx="383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AS Biology 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hoto credi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lch Ally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12-lead ECG is the most common ECG performed, although only 10 electrodes are attached to a patient – one on each limb by the wrist/ankle, and six at various points on the ch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46BB-BAE1-452A-B6EB-2284402349B0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1574640" y="88920"/>
            <a:ext cx="383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AS Biology 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polarization of the atria cannot be seen as the current is very small and masked by the QRS comple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19A5-B778-45A1-A13A-62ED5649F028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1574640" y="88920"/>
            <a:ext cx="383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AS Biology 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hoto credi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lch Ally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C-based exercise stress system with PC and treadmill, including 12-lead stress test system and Welch Allyn CardioPerfect Workstation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the ‘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ifestyle and Diseas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’ presentation for more information about heart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55F1-59EA-410E-9EB4-0581D21C6E7B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1574640" y="88920"/>
            <a:ext cx="383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AS Biology 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activity contains only a small selection of abnormal ECG traces, and the examples shown may be associated with a range of other heart conditions not mentio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ular hypertrophy occurs naturally with age but may be a sign of hypertension cardiovascular disease, and can lead to heart fail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fibrillation is the use of small, targeted electrical shocks to re-establish a normal sinus rhythm in an arrhythmic heat, usually one in VF. It cannot be used to restore electrical activity in an asystolic heart (one with a ‘flat line’ ECG trac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7A1F-9E8C-4792-B0FB-DC29067AB282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1574640" y="88920"/>
            <a:ext cx="383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AS Biology 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ontraction of the atria only accounts for about 30% of the ventricular volu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a fraction of a second as the ventricles start to contract, all valves in the heart are clo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7F98-41F8-4B46-A061-BDC918C8C2FE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1574640" y="88920"/>
            <a:ext cx="383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AS Biology 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7346-EF73-40C3-A0AB-708057BFDA3E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1574640" y="88920"/>
            <a:ext cx="383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AS Biology 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E3E9-B580-4AA2-A4A3-F063D601875D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33" name="Rectangle 10"/>
          <p:cNvSpPr/>
          <p:nvPr/>
        </p:nvSpPr>
        <p:spPr>
          <a:xfrm>
            <a:off x="1574640" y="88920"/>
            <a:ext cx="383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AS Biology 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AN sets the base heart rate, but the rate is controlled via the C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1760" y="54000"/>
            <a:ext cx="72406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21760" y="54000"/>
            <a:ext cx="72406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1760" y="54000"/>
            <a:ext cx="72406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1" descr="slide bground"/>
          <p:cNvPicPr/>
          <p:nvPr/>
        </p:nvPicPr>
        <p:blipFill>
          <a:blip r:embed="rId2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Text Box 48"/>
          <p:cNvSpPr/>
          <p:nvPr/>
        </p:nvSpPr>
        <p:spPr>
          <a:xfrm>
            <a:off x="896760" y="6654960"/>
            <a:ext cx="65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109A-B53A-41C7-BD82-F389FAF87C1C}" type="slidenum">
              <a:rPr b="0" lang="en-GB" sz="1000" spc="-1" strike="noStrike">
                <a:solidFill>
                  <a:srgbClr val="5b0091"/>
                </a:solidFill>
                <a:latin typeface="Arial"/>
                <a:ea typeface="Arial"/>
              </a:rPr>
              <a:t>&lt;number&gt;</a:t>
            </a:fld>
            <a:r>
              <a:rPr b="0" lang="en-GB" sz="1000" spc="-1" strike="noStrike">
                <a:solidFill>
                  <a:srgbClr val="5b0091"/>
                </a:solidFill>
                <a:latin typeface="Arial"/>
                <a:ea typeface="Arial"/>
              </a:rPr>
              <a:t> of 13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" name="Text Box 49"/>
          <p:cNvSpPr/>
          <p:nvPr/>
        </p:nvSpPr>
        <p:spPr>
          <a:xfrm>
            <a:off x="6445080" y="66549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b0091"/>
                </a:solidFill>
                <a:latin typeface="Arial"/>
                <a:ea typeface="Arial"/>
              </a:rPr>
              <a:t>© Boardworks Ltd 2008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3" name="Picture 50" descr="back_arrow_trans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108000" y="6167520"/>
            <a:ext cx="630360" cy="57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bc45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pic>
        <p:nvPicPr>
          <p:cNvPr id="5" name="Picture 60" descr="forward_arrow_grey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slide bground"/>
          <p:cNvPicPr/>
          <p:nvPr/>
        </p:nvPicPr>
        <p:blipFill>
          <a:blip r:embed="rId2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896760" y="6654960"/>
            <a:ext cx="65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AA2D-F5AB-499D-A5ED-6C14C528CF5A}" type="slidenum">
              <a:rPr b="0" lang="en-GB" sz="1000" spc="-1" strike="noStrike">
                <a:solidFill>
                  <a:srgbClr val="5b0091"/>
                </a:solidFill>
                <a:latin typeface="Arial"/>
                <a:ea typeface="Arial"/>
              </a:rPr>
              <a:t>&lt;number&gt;</a:t>
            </a:fld>
            <a:r>
              <a:rPr b="0" lang="en-GB" sz="1000" spc="-1" strike="noStrike">
                <a:solidFill>
                  <a:srgbClr val="5b0091"/>
                </a:solidFill>
                <a:latin typeface="Arial"/>
                <a:ea typeface="Arial"/>
              </a:rPr>
              <a:t> of 13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6445080" y="66549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b0091"/>
                </a:solidFill>
                <a:latin typeface="Arial"/>
                <a:ea typeface="Arial"/>
              </a:rPr>
              <a:t>© Boardworks Ltd 2008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45" name="Picture 5" descr="back_arrow_trans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108000" y="6167520"/>
            <a:ext cx="630360" cy="574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bc45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2" descr="title_slide_heart_part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9"/>
          <p:cNvSpPr/>
          <p:nvPr/>
        </p:nvSpPr>
        <p:spPr>
          <a:xfrm>
            <a:off x="896760" y="6654960"/>
            <a:ext cx="65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C533-5665-4B9B-8D6F-39D7ACA31FC1}" type="slidenum">
              <a:rPr b="0" lang="en-GB" sz="1000" spc="-1" strike="noStrike">
                <a:solidFill>
                  <a:srgbClr val="5b0091"/>
                </a:solidFill>
                <a:latin typeface="Arial"/>
                <a:ea typeface="Arial"/>
              </a:rPr>
              <a:t>&lt;number&gt;</a:t>
            </a:fld>
            <a:r>
              <a:rPr b="0" lang="en-GB" sz="1000" spc="-1" strike="noStrike">
                <a:solidFill>
                  <a:srgbClr val="5b0091"/>
                </a:solidFill>
                <a:latin typeface="Arial"/>
                <a:ea typeface="Arial"/>
              </a:rPr>
              <a:t> of 13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85" name="Text Box 20"/>
          <p:cNvSpPr/>
          <p:nvPr/>
        </p:nvSpPr>
        <p:spPr>
          <a:xfrm>
            <a:off x="6445080" y="66549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b0091"/>
                </a:solidFill>
                <a:latin typeface="Arial"/>
                <a:ea typeface="Arial"/>
              </a:rPr>
              <a:t>© Boardworks Ltd 2008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86" name="Picture 21" descr="forward_arrow_colour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bc45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NJzJKvkWWDc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0bc45"/>
                </a:solidFill>
                <a:latin typeface="Arial"/>
              </a:rPr>
              <a:t>Myogenic stimulation of the heart</a:t>
            </a: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pic>
        <p:nvPicPr>
          <p:cNvPr id="167" name="Picture 4" descr="flash_icon"/>
          <p:cNvPicPr/>
          <p:nvPr/>
        </p:nvPicPr>
        <p:blipFill>
          <a:blip r:embed="rId1"/>
          <a:stretch/>
        </p:blipFill>
        <p:spPr>
          <a:xfrm>
            <a:off x="7451640" y="115920"/>
            <a:ext cx="385920" cy="431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notes_icon"/>
          <p:cNvPicPr/>
          <p:nvPr/>
        </p:nvPicPr>
        <p:blipFill>
          <a:blip r:embed="rId2"/>
          <a:stretch/>
        </p:blipFill>
        <p:spPr>
          <a:xfrm>
            <a:off x="6973920" y="150840"/>
            <a:ext cx="442800" cy="387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forward_arrow_colour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ShockwaveFlash1"/>
          <p:cNvGraphicFramePr/>
          <p:nvPr/>
        </p:nvGraphicFramePr>
        <p:xfrm>
          <a:off x="212760" y="800280"/>
          <a:ext cx="8699400" cy="5308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1" name="ShockwaveFlash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2760" y="800280"/>
                    <a:ext cx="86994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0bc45"/>
                </a:solidFill>
                <a:latin typeface="Arial"/>
              </a:rPr>
              <a:t>Interactive heart</a:t>
            </a: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pic>
        <p:nvPicPr>
          <p:cNvPr id="173" name="Picture 4" descr="flash_icon"/>
          <p:cNvPicPr/>
          <p:nvPr/>
        </p:nvPicPr>
        <p:blipFill>
          <a:blip r:embed="rId1"/>
          <a:stretch/>
        </p:blipFill>
        <p:spPr>
          <a:xfrm>
            <a:off x="7451640" y="115920"/>
            <a:ext cx="385920" cy="431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forward_arrow_colour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5" name="ShockwaveFlash1"/>
          <p:cNvGraphicFramePr/>
          <p:nvPr/>
        </p:nvGraphicFramePr>
        <p:xfrm>
          <a:off x="212760" y="800280"/>
          <a:ext cx="8699400" cy="530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760" y="800280"/>
                    <a:ext cx="86994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2" descr="heart pacemaker"/>
          <p:cNvPicPr/>
          <p:nvPr/>
        </p:nvPicPr>
        <p:blipFill>
          <a:blip r:embed="rId1"/>
          <a:stretch/>
        </p:blipFill>
        <p:spPr>
          <a:xfrm>
            <a:off x="4900680" y="3084480"/>
            <a:ext cx="4067280" cy="29257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0bc45"/>
                </a:solidFill>
                <a:latin typeface="Arial"/>
              </a:rPr>
              <a:t>Artificial pacemakers</a:t>
            </a: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63400" y="784080"/>
            <a:ext cx="858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bc45"/>
                </a:solidFill>
                <a:latin typeface="Arial"/>
              </a:rPr>
              <a:t>Artificial pacemaker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are devices implanted in people whose heart’s electrical conduction system is not working properly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563400" y="2125800"/>
            <a:ext cx="822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Problems include the SAN not firing, and the blockage or disruption of impulses between the SAN and AVN, or in the bundle of His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563400" y="3467160"/>
            <a:ext cx="4329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Pacemakers monitor the heart’s electrical activity and stimulate the ventricles or atria to contract when necessary. Impulses are transmitted down electrodes implanted in the muscular walls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182" name="Picture 13" descr="forward_arrow_colour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" descr="notes_icon"/>
          <p:cNvPicPr/>
          <p:nvPr/>
        </p:nvPicPr>
        <p:blipFill>
          <a:blip r:embed="rId3"/>
          <a:stretch/>
        </p:blipFill>
        <p:spPr>
          <a:xfrm>
            <a:off x="7443720" y="150840"/>
            <a:ext cx="44316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0bc45"/>
                </a:solidFill>
                <a:latin typeface="Arial"/>
              </a:rPr>
              <a:t>The cardiac cycle</a:t>
            </a: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pic>
        <p:nvPicPr>
          <p:cNvPr id="185" name="Picture 5" descr="flash_icon"/>
          <p:cNvPicPr/>
          <p:nvPr/>
        </p:nvPicPr>
        <p:blipFill>
          <a:blip r:embed="rId1"/>
          <a:stretch/>
        </p:blipFill>
        <p:spPr>
          <a:xfrm>
            <a:off x="7451640" y="115920"/>
            <a:ext cx="385920" cy="431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forward_arrow_colour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ShockwaveFlash1"/>
          <p:cNvGraphicFramePr/>
          <p:nvPr/>
        </p:nvGraphicFramePr>
        <p:xfrm>
          <a:off x="212760" y="800280"/>
          <a:ext cx="8699400" cy="530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760" y="800280"/>
                    <a:ext cx="86994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037" descr="ECG1"/>
          <p:cNvPicPr/>
          <p:nvPr/>
        </p:nvPicPr>
        <p:blipFill>
          <a:blip r:embed="rId1"/>
          <a:stretch/>
        </p:blipFill>
        <p:spPr>
          <a:xfrm>
            <a:off x="4560840" y="1647720"/>
            <a:ext cx="4286160" cy="42865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0bc45"/>
                </a:solidFill>
                <a:latin typeface="Arial"/>
              </a:rPr>
              <a:t>What are electrocardiograms?</a:t>
            </a: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191" name="Text Box 1028"/>
          <p:cNvSpPr/>
          <p:nvPr/>
        </p:nvSpPr>
        <p:spPr>
          <a:xfrm>
            <a:off x="563400" y="784080"/>
            <a:ext cx="783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electrical activity of the heart can be monitored by an </a:t>
            </a:r>
            <a:r>
              <a:rPr b="1" lang="en-GB" sz="2400" spc="-1" strike="noStrike">
                <a:solidFill>
                  <a:srgbClr val="10bc45"/>
                </a:solidFill>
                <a:latin typeface="Arial"/>
              </a:rPr>
              <a:t>electrocardiograph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92" name="Text Box 1029"/>
          <p:cNvSpPr/>
          <p:nvPr/>
        </p:nvSpPr>
        <p:spPr>
          <a:xfrm>
            <a:off x="563400" y="1886040"/>
            <a:ext cx="4021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everal electrodes are attached to specific places on a person’s chest and limbs. These detect changes in polarization in the heart by measuring current at the skin surface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93" name="Text Box 1031"/>
          <p:cNvSpPr/>
          <p:nvPr/>
        </p:nvSpPr>
        <p:spPr>
          <a:xfrm>
            <a:off x="563400" y="484488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leads are connected to a machine that draws an </a:t>
            </a:r>
            <a:r>
              <a:rPr b="1" lang="en-GB" sz="2400" spc="-1" strike="noStrike">
                <a:solidFill>
                  <a:srgbClr val="10bc45"/>
                </a:solidFill>
                <a:latin typeface="Arial"/>
              </a:rPr>
              <a:t>electrocardiogram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(</a:t>
            </a:r>
            <a:r>
              <a:rPr b="1" lang="en-GB" sz="2400" spc="-1" strike="noStrike">
                <a:solidFill>
                  <a:srgbClr val="10bc45"/>
                </a:solidFill>
                <a:latin typeface="Arial"/>
              </a:rPr>
              <a:t>ECG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194" name="Picture 1038" descr="notes_icon"/>
          <p:cNvPicPr/>
          <p:nvPr/>
        </p:nvPicPr>
        <p:blipFill>
          <a:blip r:embed="rId2"/>
          <a:stretch/>
        </p:blipFill>
        <p:spPr>
          <a:xfrm>
            <a:off x="7443720" y="150840"/>
            <a:ext cx="443160" cy="387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39" descr="forward_arrow_colour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0bc45"/>
                </a:solidFill>
                <a:latin typeface="Arial"/>
              </a:rPr>
              <a:t>Components of an ECG trace</a:t>
            </a: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pic>
        <p:nvPicPr>
          <p:cNvPr id="197" name="Picture 7" descr="flash_icon"/>
          <p:cNvPicPr/>
          <p:nvPr/>
        </p:nvPicPr>
        <p:blipFill>
          <a:blip r:embed="rId1"/>
          <a:stretch/>
        </p:blipFill>
        <p:spPr>
          <a:xfrm>
            <a:off x="7451640" y="115920"/>
            <a:ext cx="385920" cy="431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notes_icon"/>
          <p:cNvPicPr/>
          <p:nvPr/>
        </p:nvPicPr>
        <p:blipFill>
          <a:blip r:embed="rId2"/>
          <a:stretch/>
        </p:blipFill>
        <p:spPr>
          <a:xfrm>
            <a:off x="6973920" y="150840"/>
            <a:ext cx="442800" cy="387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forward_arrow_colour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ShockwaveFlash1"/>
          <p:cNvGraphicFramePr/>
          <p:nvPr/>
        </p:nvGraphicFramePr>
        <p:xfrm>
          <a:off x="212760" y="800280"/>
          <a:ext cx="8699400" cy="5308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1" name="ShockwaveFlash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2760" y="800280"/>
                    <a:ext cx="86994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9" descr="stress_test"/>
          <p:cNvPicPr/>
          <p:nvPr/>
        </p:nvPicPr>
        <p:blipFill>
          <a:blip r:embed="rId1"/>
          <a:stretch/>
        </p:blipFill>
        <p:spPr>
          <a:xfrm>
            <a:off x="4792680" y="2066760"/>
            <a:ext cx="4000320" cy="40006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0bc45"/>
                </a:solidFill>
                <a:latin typeface="Arial"/>
              </a:rPr>
              <a:t>ECG in diagnosis</a:t>
            </a: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563400" y="784080"/>
            <a:ext cx="783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ECGs are used to diagnose problems with the heart, as variations in different components of the trace can indicate a disease or other abnormality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563400" y="2313000"/>
            <a:ext cx="394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n ECG may be taken while the patient is relaxed or it may be taken before, during and after exercise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206" name="Picture 10" descr="notes_icon"/>
          <p:cNvPicPr/>
          <p:nvPr/>
        </p:nvPicPr>
        <p:blipFill>
          <a:blip r:embed="rId2"/>
          <a:stretch/>
        </p:blipFill>
        <p:spPr>
          <a:xfrm>
            <a:off x="7443720" y="150840"/>
            <a:ext cx="443160" cy="3873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1"/>
          <p:cNvSpPr/>
          <p:nvPr/>
        </p:nvSpPr>
        <p:spPr>
          <a:xfrm>
            <a:off x="563400" y="4206960"/>
            <a:ext cx="394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is is called a ‘stress test’ and usually involves the patient exercising on a treadmill while attached to an ECG machine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208" name="Picture 12" descr="forward_arrow_colour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0bc45"/>
                </a:solidFill>
                <a:latin typeface="Arial"/>
              </a:rPr>
              <a:t>Abnormal ECGs</a:t>
            </a: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pic>
        <p:nvPicPr>
          <p:cNvPr id="210" name="Picture 5" descr="flash_icon"/>
          <p:cNvPicPr/>
          <p:nvPr/>
        </p:nvPicPr>
        <p:blipFill>
          <a:blip r:embed="rId1"/>
          <a:stretch/>
        </p:blipFill>
        <p:spPr>
          <a:xfrm>
            <a:off x="7451640" y="115920"/>
            <a:ext cx="385920" cy="431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forward_arrow_colour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notes_icon"/>
          <p:cNvPicPr/>
          <p:nvPr/>
        </p:nvPicPr>
        <p:blipFill>
          <a:blip r:embed="rId3"/>
          <a:stretch/>
        </p:blipFill>
        <p:spPr>
          <a:xfrm>
            <a:off x="6973920" y="150840"/>
            <a:ext cx="442800" cy="38736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13"/>
          <p:cNvSpPr/>
          <p:nvPr/>
        </p:nvSpPr>
        <p:spPr>
          <a:xfrm>
            <a:off x="8393040" y="6140520"/>
            <a:ext cx="728640" cy="5950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graphicFrame>
        <p:nvGraphicFramePr>
          <p:cNvPr id="214" name="ShockwaveFlash1"/>
          <p:cNvGraphicFramePr/>
          <p:nvPr/>
        </p:nvGraphicFramePr>
        <p:xfrm>
          <a:off x="212760" y="800280"/>
          <a:ext cx="8699400" cy="5308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5" name="ShockwaveFlash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2760" y="800280"/>
                    <a:ext cx="86994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64600" y="100008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0bc45"/>
                </a:solidFill>
                <a:latin typeface="Arial"/>
              </a:rPr>
              <a:t>STARTER:  </a:t>
            </a:r>
            <a:r>
              <a:rPr b="1" lang="en-US" sz="2500" spc="-1" strike="noStrike">
                <a:solidFill>
                  <a:srgbClr val="00b050"/>
                </a:solidFill>
                <a:latin typeface="Arial"/>
              </a:rPr>
              <a:t>Label </a:t>
            </a:r>
            <a:r>
              <a:rPr b="1" lang="en-US" sz="2500" spc="-1" strike="noStrike">
                <a:solidFill>
                  <a:srgbClr val="10bc45"/>
                </a:solidFill>
                <a:latin typeface="Arial"/>
              </a:rPr>
              <a:t>the heart diagram and complete functions of the heart</a:t>
            </a:r>
            <a:endParaRPr b="1" lang="en-US" sz="2500" spc="-1" strike="noStrike">
              <a:solidFill>
                <a:srgbClr val="10bc45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335268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1311120" y="603360"/>
            <a:ext cx="652176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50760" y="880920"/>
            <a:ext cx="72424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NJzJKvkWWDc</a:t>
            </a:r>
            <a:endParaRPr b="1" lang="en-US" sz="25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t down key ideas from the Bozeman c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0bc45"/>
                </a:solidFill>
                <a:latin typeface="Arial"/>
              </a:rPr>
              <a:t>The cardiac cycle</a:t>
            </a: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pic>
        <p:nvPicPr>
          <p:cNvPr id="139" name="Picture 1028" descr="flash_icon"/>
          <p:cNvPicPr/>
          <p:nvPr/>
        </p:nvPicPr>
        <p:blipFill>
          <a:blip r:embed="rId1"/>
          <a:stretch/>
        </p:blipFill>
        <p:spPr>
          <a:xfrm>
            <a:off x="7451640" y="115920"/>
            <a:ext cx="385920" cy="431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29" descr="notes_icon"/>
          <p:cNvPicPr/>
          <p:nvPr/>
        </p:nvPicPr>
        <p:blipFill>
          <a:blip r:embed="rId2"/>
          <a:stretch/>
        </p:blipFill>
        <p:spPr>
          <a:xfrm>
            <a:off x="6973920" y="150840"/>
            <a:ext cx="442800" cy="387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32" descr="forward_arrow_colour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ShockwaveFlash1"/>
          <p:cNvGraphicFramePr/>
          <p:nvPr/>
        </p:nvGraphicFramePr>
        <p:xfrm>
          <a:off x="212760" y="800280"/>
          <a:ext cx="8699400" cy="5308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3" name="ShockwaveFlash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2760" y="800280"/>
                    <a:ext cx="86994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0bc45"/>
                </a:solidFill>
                <a:latin typeface="Arial"/>
              </a:rPr>
              <a:t>Interactive heart</a:t>
            </a: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pic>
        <p:nvPicPr>
          <p:cNvPr id="145" name="Picture 4" descr="flash_icon"/>
          <p:cNvPicPr/>
          <p:nvPr/>
        </p:nvPicPr>
        <p:blipFill>
          <a:blip r:embed="rId1"/>
          <a:stretch/>
        </p:blipFill>
        <p:spPr>
          <a:xfrm>
            <a:off x="7451640" y="115920"/>
            <a:ext cx="385920" cy="431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forward_arrow_colour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ShockwaveFlash1"/>
          <p:cNvGraphicFramePr/>
          <p:nvPr/>
        </p:nvGraphicFramePr>
        <p:xfrm>
          <a:off x="212760" y="800280"/>
          <a:ext cx="8699400" cy="530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760" y="800280"/>
                    <a:ext cx="86994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0bc45"/>
                </a:solidFill>
                <a:latin typeface="Arial"/>
              </a:rPr>
              <a:t>Cardiac output</a:t>
            </a: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563400" y="784080"/>
            <a:ext cx="822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amount of blood pumped around the body is called the </a:t>
            </a:r>
            <a:r>
              <a:rPr b="1" lang="en-GB" sz="2400" spc="-1" strike="noStrike">
                <a:solidFill>
                  <a:srgbClr val="10bc45"/>
                </a:solidFill>
                <a:latin typeface="Arial"/>
              </a:rPr>
              <a:t>cardiac output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, and depends on two factors: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563400" y="3105000"/>
            <a:ext cx="822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500"/>
              </a:spcBef>
              <a:buClr>
                <a:srgbClr val="10bc4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</a:t>
            </a:r>
            <a:r>
              <a:rPr b="1" lang="en-GB" sz="2400" spc="-1" strike="noStrike">
                <a:solidFill>
                  <a:srgbClr val="10bc45"/>
                </a:solidFill>
                <a:latin typeface="Arial"/>
              </a:rPr>
              <a:t>heart rate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– the number of times the heart beats per minute. A typical value for an adult at rest is 70</a:t>
            </a:r>
            <a:r>
              <a:rPr b="0" lang="en-GB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bpm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563400" y="1852560"/>
            <a:ext cx="822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500"/>
              </a:spcBef>
              <a:buClr>
                <a:srgbClr val="10bc4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</a:t>
            </a:r>
            <a:r>
              <a:rPr b="1" lang="en-GB" sz="2400" spc="-1" strike="noStrike">
                <a:solidFill>
                  <a:srgbClr val="10bc45"/>
                </a:solidFill>
                <a:latin typeface="Arial"/>
              </a:rPr>
              <a:t>stroke volume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– the volume of blood pumped by the left ventricle in each heart beat. A typical value for an adult at rest is 75</a:t>
            </a:r>
            <a:r>
              <a:rPr b="0" lang="en-GB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ml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944640" y="4035600"/>
            <a:ext cx="7256520" cy="8982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10bc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1111320" y="4255920"/>
            <a:ext cx="692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cardiac output  =  stroke volume  ×  heart rate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563400" y="5118120"/>
            <a:ext cx="798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 typical resting cardiac output is 4–6 litres per minute. This can rise to as much as 40 litres per minute in highly trained endurance athletes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156" name="Picture 13" descr="forward_arrow_colour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0bc45"/>
                </a:solidFill>
                <a:latin typeface="Arial"/>
              </a:rPr>
              <a:t>Pacemaker cells of the heart</a:t>
            </a: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563400" y="784080"/>
            <a:ext cx="822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heart can beat without any input from the nervous system as longs as its cells stay alive. This is due to </a:t>
            </a:r>
            <a:r>
              <a:rPr b="1" lang="en-GB" sz="2400" spc="-1" strike="noStrike">
                <a:solidFill>
                  <a:srgbClr val="10bc45"/>
                </a:solidFill>
                <a:latin typeface="Arial"/>
              </a:rPr>
              <a:t>myogenic contraction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563400" y="4950000"/>
            <a:ext cx="858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Depolarization is initiated in a region of the heart called the </a:t>
            </a:r>
            <a:r>
              <a:rPr b="1" lang="en-GB" sz="2400" spc="-1" strike="noStrike">
                <a:solidFill>
                  <a:srgbClr val="10bc45"/>
                </a:solidFill>
                <a:latin typeface="Arial"/>
              </a:rPr>
              <a:t>sinoatrial node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(</a:t>
            </a:r>
            <a:r>
              <a:rPr b="1" lang="en-GB" sz="2400" spc="-1" strike="noStrike">
                <a:solidFill>
                  <a:srgbClr val="10bc45"/>
                </a:solidFill>
                <a:latin typeface="Arial"/>
              </a:rPr>
              <a:t>SAN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) – also known as the </a:t>
            </a:r>
            <a:r>
              <a:rPr b="1" lang="en-GB" sz="2400" spc="-1" strike="noStrike">
                <a:solidFill>
                  <a:srgbClr val="10bc45"/>
                </a:solidFill>
                <a:latin typeface="Arial"/>
              </a:rPr>
              <a:t>pacemaker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– which is in the wall of the right atrium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563400" y="2684520"/>
            <a:ext cx="822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Muscle cells (</a:t>
            </a:r>
            <a:r>
              <a:rPr b="1" lang="en-GB" sz="2400" spc="-1" strike="noStrike">
                <a:solidFill>
                  <a:srgbClr val="10bc45"/>
                </a:solidFill>
                <a:latin typeface="Arial"/>
              </a:rPr>
              <a:t>myocyte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) in the heart have a slight electrical charge across their membrane. They are </a:t>
            </a:r>
            <a:r>
              <a:rPr b="1" lang="en-GB" sz="2400" spc="-1" strike="noStrike">
                <a:solidFill>
                  <a:srgbClr val="10bc45"/>
                </a:solidFill>
                <a:latin typeface="Arial"/>
              </a:rPr>
              <a:t>polarized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 When the charge is reversed, they are said to be </a:t>
            </a:r>
            <a:r>
              <a:rPr b="1" lang="en-GB" sz="2400" spc="-1" strike="noStrike">
                <a:solidFill>
                  <a:srgbClr val="10bc45"/>
                </a:solidFill>
                <a:latin typeface="Arial"/>
              </a:rPr>
              <a:t>depolarized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and this causes them to contract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161" name="Picture 7" descr="notes_icon"/>
          <p:cNvPicPr/>
          <p:nvPr/>
        </p:nvPicPr>
        <p:blipFill>
          <a:blip r:embed="rId1"/>
          <a:stretch/>
        </p:blipFill>
        <p:spPr>
          <a:xfrm>
            <a:off x="7443720" y="150840"/>
            <a:ext cx="443160" cy="387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forward_arrow_colour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bc45"/>
                </a:solidFill>
                <a:latin typeface="Arial"/>
              </a:rPr>
              <a:t>Electrical conducting system in the heart</a:t>
            </a: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396720" y="1185840"/>
            <a:ext cx="6034320" cy="4525920"/>
          </a:xfrm>
          <a:prstGeom prst="rect">
            <a:avLst/>
          </a:prstGeom>
          <a:ln w="0">
            <a:noFill/>
          </a:ln>
        </p:spPr>
      </p:pic>
      <p:sp>
        <p:nvSpPr>
          <p:cNvPr id="165" name="TextBox 2"/>
          <p:cNvSpPr/>
          <p:nvPr/>
        </p:nvSpPr>
        <p:spPr>
          <a:xfrm>
            <a:off x="6804000" y="1557360"/>
            <a:ext cx="194472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ords to listen for: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Sino-Atrial Node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Action potential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Purkinje fibres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3T07:39:42Z</dcterms:created>
  <dc:creator>Boardworks Ltd</dc:creator>
  <dc:description/>
  <dc:language>en-US</dc:language>
  <cp:lastModifiedBy>Biology</cp:lastModifiedBy>
  <dcterms:modified xsi:type="dcterms:W3CDTF">2015-02-06T17:46:10Z</dcterms:modified>
  <cp:revision>749</cp:revision>
  <dc:subject>AS Biology</dc:subject>
  <dc:title>The Heart</dc:title>
</cp:coreProperties>
</file>